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A73-437C-46E4-AAE5-0EEA04C8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409-12D8-4FFE-9B70-BFDC8BF6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B11-D037-42D0-96D3-DFB22120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B3C-26F3-4ADC-828B-3B15B63F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D10-5ADB-4313-9C79-B82FA210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DDE-2B31-4AF1-91E2-5E90E6D9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153-C9F9-479F-996C-B0C402EB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561-1433-4E53-A89A-01FEA410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2A0-76E8-4A61-912D-9F371826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1900-C226-4DD0-B148-6BE0C575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C9A-43B8-4BA4-8AA3-7AF31E73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7C3-044A-4937-9E68-075AA448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2E22-3E22-4128-A68D-2A680D09F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an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274320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t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4572000"/>
            <a:ext cx="2666880" cy="1905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004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m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D05473_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17366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29000" y="27432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6858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H00889_" descr=""/>
          <p:cNvPicPr/>
          <p:nvPr/>
        </p:nvPicPr>
        <p:blipFill>
          <a:blip r:embed="rId1"/>
          <a:stretch/>
        </p:blipFill>
        <p:spPr>
          <a:xfrm>
            <a:off x="3276720" y="4876920"/>
            <a:ext cx="2143080" cy="8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8120" y="27432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7621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f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D08950_" descr=""/>
          <p:cNvPicPr/>
          <p:nvPr/>
        </p:nvPicPr>
        <p:blipFill>
          <a:blip r:embed="rId1"/>
          <a:stretch/>
        </p:blipFill>
        <p:spPr>
          <a:xfrm>
            <a:off x="3048120" y="4114800"/>
            <a:ext cx="205560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00400" y="27432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D06115_" descr=""/>
          <p:cNvPicPr/>
          <p:nvPr/>
        </p:nvPicPr>
        <p:blipFill>
          <a:blip r:embed="rId1"/>
          <a:stretch/>
        </p:blipFill>
        <p:spPr>
          <a:xfrm>
            <a:off x="2971800" y="4495680"/>
            <a:ext cx="243684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8120" y="281952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281952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v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j0391414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1812960" cy="17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971800" y="27432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D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j0079194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1936800" cy="250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Wake County Public Schools</cp:lastModifiedBy>
  <dcterms:modified xsi:type="dcterms:W3CDTF">2005-06-14T05:27:59Z</dcterms:modified>
  <cp:revision>14</cp:revision>
  <dc:subject/>
  <dc:title>-ill Word Family</dc:title>
</cp:coreProperties>
</file>